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EA3E5-4516-43A9-B6FE-B4F4DDBC7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FC92-DBE8-4B06-94D6-26723CC5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23F5F-67E5-4A2C-9B8A-37916E084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942B9-6B6A-42B8-A471-A22C48026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86249-DBED-4F85-852D-15D3D85C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0E61-EBF8-43A4-9780-1DC1944F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0843-6F63-4249-A07A-C2FF718D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56DAB-F17C-4584-9478-E8DCF65AA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B93F-B83F-472F-BA47-E9C15255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4222-AAE6-4895-86F7-D83499435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32D9-3DF4-41B4-8B00-1F9A4E71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81E1-D866-48DE-A5B5-86908EA5D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DB85-F34A-49FA-A20B-31C5EDB13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Bodoni MT Black"/>
              </a:rPr>
              <a:t>Apple iPod S-Curve</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is an S-Curv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Corbel"/>
              </a:rPr>
              <a:t>An S-Curve is a measure of the adopters of a particular innovation.  The curve is an S shape because it models the rate of adoption.  At first the adoption of an innovation is typically slow.  As knowledge of the innovation increases, the rate of adoption also follows.  In the end, the adoption of the innovation seems to plateau and level off once majority of members of a social system adopt the innov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81532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Apple iPod S-Curve</a:t>
            </a:r>
            <a:br>
              <a:rPr sz="4400"/>
            </a:br>
            <a:br>
              <a:rPr sz="4400"/>
            </a:br>
            <a:r>
              <a:rPr b="1" lang="en-US" sz="2400" spc="-1" strike="noStrike">
                <a:solidFill>
                  <a:srgbClr val="333300"/>
                </a:solidFill>
                <a:latin typeface="Corbel"/>
              </a:rPr>
              <a:t>“Apple’s fiscal year ends in September.  This means that Q1 includes the holiday season which accounts for the jump in the data.  Fiscal Q1 is October-December of the previous year, and so on” (Wikipedia, 2009)</a:t>
            </a:r>
            <a:br>
              <a:rPr sz="2400"/>
            </a:br>
            <a:br>
              <a:rPr sz="2400"/>
            </a:br>
            <a:r>
              <a:rPr b="1" lang="en-US" sz="2400" spc="-1" strike="noStrike">
                <a:solidFill>
                  <a:srgbClr val="333300"/>
                </a:solidFill>
                <a:latin typeface="Corbel"/>
              </a:rPr>
              <a:t>The first graph illustrates total iPods sales from fiscal quarter 1 2002 to fiscal quarter 2 2009.</a:t>
            </a:r>
            <a:br>
              <a:rPr sz="2400"/>
            </a:br>
            <a:br>
              <a:rPr sz="2400"/>
            </a:br>
            <a:r>
              <a:rPr b="1" lang="en-US" sz="2400" spc="-1" strike="noStrike">
                <a:solidFill>
                  <a:srgbClr val="333300"/>
                </a:solidFill>
                <a:latin typeface="Corbel"/>
              </a:rPr>
              <a:t>The second graph serves as a closer view of the iPod sales between 2002 and 2004.</a:t>
            </a:r>
            <a:endParaRPr b="0" lang="en-US" sz="2400" spc="-1" strike="noStrike">
              <a:solidFill>
                <a:srgbClr val="000000"/>
              </a:solidFill>
              <a:latin typeface="Arial"/>
            </a:endParaRPr>
          </a:p>
        </p:txBody>
      </p:sp>
      <p:graphicFrame>
        <p:nvGraphicFramePr>
          <p:cNvPr id="45" name=""/>
          <p:cNvGraphicFramePr/>
          <p:nvPr/>
        </p:nvGraphicFramePr>
        <p:xfrm>
          <a:off x="457200" y="2516040"/>
          <a:ext cx="4038480" cy="2694240"/>
        </p:xfrm>
        <a:graphic>
          <a:graphicData uri="http://schemas.openxmlformats.org/presentationml/2006/ole">
            <p:oleObj r:id="rId1" spid="">
              <p:embed/>
              <p:pic>
                <p:nvPicPr>
                  <p:cNvPr id="46" name="" descr=""/>
                  <p:cNvPicPr/>
                  <p:nvPr/>
                </p:nvPicPr>
                <p:blipFill>
                  <a:blip r:embed="rId2"/>
                  <a:stretch/>
                </p:blipFill>
                <p:spPr>
                  <a:xfrm>
                    <a:off x="457200" y="2516040"/>
                    <a:ext cx="4038480" cy="26942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8580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304920" y="1066680"/>
          <a:ext cx="6172200" cy="4114800"/>
        </p:xfrm>
        <a:graphic>
          <a:graphicData uri="http://schemas.openxmlformats.org/presentationml/2006/ole">
            <p:oleObj progId="Excel.Sheet.12" r:id="rId1" spid="">
              <p:embed/>
              <p:pic>
                <p:nvPicPr>
                  <p:cNvPr id="50" name="" descr=""/>
                  <p:cNvPicPr/>
                  <p:nvPr/>
                </p:nvPicPr>
                <p:blipFill>
                  <a:blip r:embed="rId2"/>
                  <a:stretch/>
                </p:blipFill>
                <p:spPr>
                  <a:xfrm>
                    <a:off x="304920" y="1066680"/>
                    <a:ext cx="6172200" cy="4114800"/>
                  </a:xfrm>
                  <a:prstGeom prst="rect">
                    <a:avLst/>
                  </a:prstGeom>
                  <a:ln w="0">
                    <a:noFill/>
                  </a:ln>
                </p:spPr>
              </p:pic>
            </p:oleObj>
          </a:graphicData>
        </a:graphic>
      </p:graphicFrame>
      <p:graphicFrame>
        <p:nvGraphicFramePr>
          <p:cNvPr id="51" name=""/>
          <p:cNvGraphicFramePr/>
          <p:nvPr/>
        </p:nvGraphicFramePr>
        <p:xfrm>
          <a:off x="6019920" y="228600"/>
          <a:ext cx="2747880" cy="6248520"/>
        </p:xfrm>
        <a:graphic>
          <a:graphicData uri="http://schemas.openxmlformats.org/presentationml/2006/ole">
            <p:oleObj progId="Excel.Sheet.12" r:id="rId3" spid="">
              <p:embed/>
              <p:pic>
                <p:nvPicPr>
                  <p:cNvPr id="52" name="" descr=""/>
                  <p:cNvPicPr/>
                  <p:nvPr/>
                </p:nvPicPr>
                <p:blipFill>
                  <a:blip r:embed="rId4"/>
                  <a:stretch/>
                </p:blipFill>
                <p:spPr>
                  <a:xfrm>
                    <a:off x="6019920" y="228600"/>
                    <a:ext cx="2747880" cy="6248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does this mean?</a:t>
            </a: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Corbel"/>
              </a:rPr>
              <a:t>After examining the data, one can see that iPod sales have steadily increased since its appearance on the market eight years ago.  The yearly increase in sales is attributable to numerous factors: new models of iPods, cheaper prices, holiday sales, and so forth.  The steady increase causes one to question when iPod sales will level off?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bel"/>
              </a:rPr>
              <a:t>2007 3</a:t>
            </a:r>
            <a:r>
              <a:rPr b="1" lang="en-US" sz="3200" spc="-1" strike="noStrike" baseline="30000">
                <a:solidFill>
                  <a:srgbClr val="333300"/>
                </a:solidFill>
                <a:latin typeface="Corbel"/>
              </a:rPr>
              <a:t>rd</a:t>
            </a:r>
            <a:r>
              <a:rPr b="1" lang="en-US" sz="3200" spc="-1" strike="noStrike">
                <a:solidFill>
                  <a:srgbClr val="333300"/>
                </a:solidFill>
                <a:latin typeface="Corbel"/>
              </a:rPr>
              <a:t> quarter sales mark the beginning of a slower adoption rate of the innovation.  The jumps marked on the chart indicate holiday sales which skews the S-curve.  By this point though, in 2009, many adopters contributing to the sales of iPods are those users wanting to upgrade, not necessarily purchase for first-time use.  However, with the integration of the iPod in the classroom, many school districts might make the investment for classroom sets of iPods just as computers are standard in most rooms.</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57"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20:00:29Z</dcterms:created>
  <dc:creator>e200511093</dc:creator>
  <dc:description/>
  <dc:language>en-US</dc:language>
  <cp:lastModifiedBy>e200511093</cp:lastModifiedBy>
  <dcterms:modified xsi:type="dcterms:W3CDTF">2009-07-09T20:00:44Z</dcterms:modified>
  <cp:revision>1</cp:revision>
  <dc:subject/>
  <dc:title>Apple iPod S-Curve</dc:title>
</cp:coreProperties>
</file>